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772275"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B62A2D-89F7-4809-B881-E23E2BFE89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C5B49F-BC68-4F6D-A011-374ACE730E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F63DA8-4E62-4F41-B2D9-4B7C15EC18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B3EB57-FC13-4067-B6A9-592F3B0345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841C1C-500A-488D-9215-FF92EEE781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B5D507-5493-4962-81F4-660B22733A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31933D-F4FE-4970-A616-60F34D1D3A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1D3A19-76C7-4786-BCB9-C7DEEBE09F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0B06FF-67BD-40B9-9A58-0D25B9CE3A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BCD083-056E-4C64-94BA-E416CC801E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E17542-F0D0-4023-BC3E-0D080BFBA5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DAA29D-EEE0-48CC-B8A6-60C87831E6E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d4a8"/>
            </a:gs>
            <a:gs pos="100000">
              <a:srgbClr val="005cb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D6E7F9-FBCB-4D7F-A055-BF1845450A29}" type="slidenum">
              <a:rPr b="0" lang="en-AU"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Calibri"/>
              </a:rPr>
              <a:t>UNIT 3 – IT APPLICATIONS</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alibri"/>
              </a:rPr>
              <a:t>AREA OF STUDY 1 &amp; 2</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alibri"/>
              </a:rPr>
              <a:t>OUTCOM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Calibri"/>
              </a:rPr>
              <a:t>AOS 2: - Outcome 2 Key Skills</a:t>
            </a:r>
            <a:endParaRPr b="0" lang="en-US" sz="4400" spc="-1" strike="noStrike">
              <a:solidFill>
                <a:srgbClr val="000000"/>
              </a:solidFill>
              <a:latin typeface="Calibri"/>
            </a:endParaRPr>
          </a:p>
        </p:txBody>
      </p:sp>
      <p:sp>
        <p:nvSpPr>
          <p:cNvPr id="60" name=""/>
          <p:cNvSpPr txBox="1"/>
          <p:nvPr/>
        </p:nvSpPr>
        <p:spPr>
          <a:xfrm>
            <a:off x="457200" y="160020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alibri"/>
              </a:rPr>
              <a:t>explain reasons why data is acquired and supplied via website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alibri"/>
              </a:rPr>
              <a:t>propose techniques for acquiring data via websites and for protecting the rights of data provider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alibri"/>
              </a:rPr>
              <a:t>select and apply design tools and techniques for describing data types and representing the functionality of solution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alibri"/>
              </a:rPr>
              <a:t>use RDBMS functions and techniques to manipulate and validate data</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alibri"/>
              </a:rPr>
              <a:t>apply functions and techniques to construct queries that efficiently retrieve required information</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alibri"/>
              </a:rPr>
              <a:t>select and apply testing methods and techniques to confirm whether the solutions operate as intended.</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68360" y="549000"/>
            <a:ext cx="8229600" cy="863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000000"/>
                </a:solidFill>
                <a:latin typeface="Calibri"/>
              </a:rPr>
              <a:t>Area of study 1 - Online communities</a:t>
            </a:r>
            <a:br>
              <a:rPr sz="3600"/>
            </a:br>
            <a:endParaRPr b="0" lang="en-US" sz="3600" spc="-1" strike="noStrike">
              <a:solidFill>
                <a:srgbClr val="000000"/>
              </a:solidFill>
              <a:latin typeface="Calibri"/>
            </a:endParaRPr>
          </a:p>
        </p:txBody>
      </p:sp>
      <p:sp>
        <p:nvSpPr>
          <p:cNvPr id="44" name=""/>
          <p:cNvSpPr txBox="1"/>
          <p:nvPr/>
        </p:nvSpPr>
        <p:spPr>
          <a:xfrm>
            <a:off x="395280" y="148428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alibri"/>
              </a:rPr>
              <a:t>In this area of study we will investigate types of online communities and their needs, and the types, purposes and functionality of specific types of websites that support information exchange, including wikis, blogs, forums and social networking site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alibri"/>
              </a:rPr>
              <a:t>In this area of study there is an emphasis on the analysis, design and development stages of the problem solving methodology.</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000000"/>
                </a:solidFill>
                <a:latin typeface="Calibri"/>
              </a:rPr>
              <a:t>Area of Study 1: - Outcome 1</a:t>
            </a:r>
            <a:endParaRPr b="0" lang="en-US" sz="4400" spc="-1" strike="noStrike">
              <a:solidFill>
                <a:srgbClr val="000000"/>
              </a:solidFill>
              <a:latin typeface="Calibri"/>
            </a:endParaRPr>
          </a:p>
        </p:txBody>
      </p:sp>
      <p:sp>
        <p:nvSpPr>
          <p:cNvPr id="4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alibri"/>
              </a:rPr>
              <a:t>On completion of this Area of Study we will be able to apply the different stages of the problem-solving methodology to create a prototype website that meets an online community’s needs, and explain the technical requirements to support the hosting of this websit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Calibri"/>
              </a:rPr>
              <a:t>Topics we will cover in AOS 1</a:t>
            </a:r>
            <a:endParaRPr b="0" lang="en-US" sz="4400" spc="-1" strike="noStrike">
              <a:solidFill>
                <a:srgbClr val="000000"/>
              </a:solidFill>
              <a:latin typeface="Calibri"/>
            </a:endParaRPr>
          </a:p>
        </p:txBody>
      </p:sp>
      <p:sp>
        <p:nvSpPr>
          <p:cNvPr id="48" name=""/>
          <p:cNvSpPr txBox="1"/>
          <p:nvPr/>
        </p:nvSpPr>
        <p:spPr>
          <a:xfrm>
            <a:off x="457200" y="1600200"/>
            <a:ext cx="8229600" cy="4525920"/>
          </a:xfrm>
          <a:prstGeom prst="rect">
            <a:avLst/>
          </a:prstGeom>
          <a:noFill/>
          <a:ln w="0">
            <a:noFill/>
          </a:ln>
        </p:spPr>
        <p:txBody>
          <a:bodyPr anchor="t">
            <a:normAutofit fontScale="97000"/>
          </a:bodyPr>
          <a:p>
            <a:pPr marL="332640" indent="-3326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alibri"/>
              </a:rPr>
              <a:t>Networks </a:t>
            </a:r>
            <a:endParaRPr b="0" lang="en-US" sz="2000" spc="-1" strike="noStrike">
              <a:solidFill>
                <a:srgbClr val="000000"/>
              </a:solidFill>
              <a:latin typeface="Calibri"/>
            </a:endParaRPr>
          </a:p>
          <a:p>
            <a:pPr lvl="1" marL="720720" indent="-27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alibri"/>
              </a:rPr>
              <a:t>General definition and advantages</a:t>
            </a:r>
            <a:endParaRPr b="0" lang="en-US" sz="2000" spc="-1" strike="noStrike">
              <a:solidFill>
                <a:srgbClr val="000000"/>
              </a:solidFill>
              <a:latin typeface="Calibri"/>
            </a:endParaRPr>
          </a:p>
          <a:p>
            <a:pPr lvl="1" marL="720720" indent="-27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alibri"/>
              </a:rPr>
              <a:t>How network data and information can be shared within an organisation </a:t>
            </a:r>
            <a:endParaRPr b="0" lang="en-US" sz="2000" spc="-1" strike="noStrike">
              <a:solidFill>
                <a:srgbClr val="000000"/>
              </a:solidFill>
              <a:latin typeface="Calibri"/>
            </a:endParaRPr>
          </a:p>
          <a:p>
            <a:pPr lvl="1" marL="720720" indent="-27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alibri"/>
              </a:rPr>
              <a:t>How networks can facilitate communication.</a:t>
            </a:r>
            <a:endParaRPr b="0" lang="en-US" sz="2000" spc="-1" strike="noStrike">
              <a:solidFill>
                <a:srgbClr val="000000"/>
              </a:solidFill>
              <a:latin typeface="Calibri"/>
            </a:endParaRPr>
          </a:p>
          <a:p>
            <a:pPr lvl="1" marL="720720" indent="-27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alibri"/>
              </a:rPr>
              <a:t>Types of Networks – LAN / WAN, design of a computer network, p2p networks, </a:t>
            </a:r>
            <a:endParaRPr b="0" lang="en-US" sz="2000" spc="-1" strike="noStrike">
              <a:solidFill>
                <a:srgbClr val="000000"/>
              </a:solidFill>
              <a:latin typeface="Calibri"/>
            </a:endParaRPr>
          </a:p>
          <a:p>
            <a:pPr lvl="1" marL="720720" indent="-27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alibri"/>
              </a:rPr>
              <a:t>Intranets, Ethernet</a:t>
            </a:r>
            <a:endParaRPr b="0" lang="en-US" sz="2000" spc="-1" strike="noStrike">
              <a:solidFill>
                <a:srgbClr val="000000"/>
              </a:solidFill>
              <a:latin typeface="Calibri"/>
            </a:endParaRPr>
          </a:p>
          <a:p>
            <a:pPr lvl="1" marL="720720" indent="-27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alibri"/>
              </a:rPr>
              <a:t>Network and Hardware – how is it related?</a:t>
            </a:r>
            <a:endParaRPr b="0" lang="en-US" sz="2000" spc="-1" strike="noStrike">
              <a:solidFill>
                <a:srgbClr val="000000"/>
              </a:solidFill>
              <a:latin typeface="Calibri"/>
            </a:endParaRPr>
          </a:p>
          <a:p>
            <a:pPr lvl="1" marL="720720" indent="-27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alibri"/>
              </a:rPr>
              <a:t>Network Interface Cards</a:t>
            </a:r>
            <a:endParaRPr b="0" lang="en-US" sz="2000" spc="-1" strike="noStrike">
              <a:solidFill>
                <a:srgbClr val="000000"/>
              </a:solidFill>
              <a:latin typeface="Calibri"/>
            </a:endParaRPr>
          </a:p>
          <a:p>
            <a:pPr lvl="1" marL="720720" indent="-27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alibri"/>
              </a:rPr>
              <a:t>What are Switches, Routers, Modems?</a:t>
            </a:r>
            <a:endParaRPr b="0" lang="en-US" sz="2000" spc="-1" strike="noStrike">
              <a:solidFill>
                <a:srgbClr val="000000"/>
              </a:solidFill>
              <a:latin typeface="Calibri"/>
            </a:endParaRPr>
          </a:p>
          <a:p>
            <a:pPr lvl="1" marL="720720" indent="-27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alibri"/>
              </a:rPr>
              <a:t>Network Security</a:t>
            </a:r>
            <a:endParaRPr b="0" lang="en-US" sz="2000" spc="-1" strike="noStrike">
              <a:solidFill>
                <a:srgbClr val="000000"/>
              </a:solidFill>
              <a:latin typeface="Calibri"/>
            </a:endParaRPr>
          </a:p>
          <a:p>
            <a:pPr lvl="1" marL="720720" indent="-27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alibri"/>
              </a:rPr>
              <a:t>Physical Design of Networks</a:t>
            </a:r>
            <a:endParaRPr b="0" lang="en-US" sz="2000" spc="-1" strike="noStrike">
              <a:solidFill>
                <a:srgbClr val="000000"/>
              </a:solidFill>
              <a:latin typeface="Calibri"/>
            </a:endParaRPr>
          </a:p>
          <a:p>
            <a:pPr lvl="2" marL="1108440" indent="-2214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20720" indent="-27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Calibri"/>
              </a:rPr>
              <a:t>Topics we will cover in AOS 1</a:t>
            </a:r>
            <a:endParaRPr b="0" lang="en-US" sz="4400" spc="-1" strike="noStrike">
              <a:solidFill>
                <a:srgbClr val="000000"/>
              </a:solidFill>
              <a:latin typeface="Calibri"/>
            </a:endParaRPr>
          </a:p>
        </p:txBody>
      </p:sp>
      <p:sp>
        <p:nvSpPr>
          <p:cNvPr id="5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alibri"/>
              </a:rPr>
              <a:t>Websites the support online communitie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alibri"/>
              </a:rPr>
              <a:t>Different types of online communitie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alibri"/>
              </a:rPr>
              <a:t>What are social network communitie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alibri"/>
              </a:rPr>
              <a:t>What is the difference between a wiki and a blog?</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alibri"/>
              </a:rPr>
              <a:t>Characteristics of an online community</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alibri"/>
              </a:rPr>
              <a:t>What are some of the different constraints that setting up a website for a community could fac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alibri"/>
              </a:rPr>
              <a:t>What is the purpose of an online community?</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Calibri"/>
              </a:rPr>
              <a:t>AOS 1: - Outcome 1 Key Skills</a:t>
            </a:r>
            <a:endParaRPr b="0" lang="en-US" sz="4400" spc="-1" strike="noStrike">
              <a:solidFill>
                <a:srgbClr val="000000"/>
              </a:solidFill>
              <a:latin typeface="Calibri"/>
            </a:endParaRPr>
          </a:p>
        </p:txBody>
      </p:sp>
      <p:sp>
        <p:nvSpPr>
          <p:cNvPr id="52" name=""/>
          <p:cNvSpPr txBox="1"/>
          <p:nvPr/>
        </p:nvSpPr>
        <p:spPr>
          <a:xfrm>
            <a:off x="457200" y="160020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alibri"/>
              </a:rPr>
              <a:t>Identify types of websites suitable for different online communitie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alibri"/>
              </a:rPr>
              <a:t>Analyse online communities in order to identify solution requirements and technical and nontechnical constraint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alibri"/>
              </a:rPr>
              <a:t>Select and apply appropriate design tools to represent the functionality and appearance of prototype website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alibri"/>
              </a:rPr>
              <a:t>Use web authoring software and select and apply suitable functions, methods, formats, conventions, techniques and design elements to develop prototype websites that operate as intended</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alibri"/>
              </a:rPr>
              <a:t>Justify websites that suit the needs of different online communitie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alibri"/>
              </a:rPr>
              <a:t>Explain the technical requirements of the networks hosting the websites.</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Calibri"/>
              </a:rPr>
              <a:t>What is the Problem Solving Methodology?</a:t>
            </a:r>
            <a:endParaRPr b="0" lang="en-US" sz="4400" spc="-1" strike="noStrike">
              <a:solidFill>
                <a:srgbClr val="000000"/>
              </a:solidFill>
              <a:latin typeface="Calibri"/>
            </a:endParaRPr>
          </a:p>
        </p:txBody>
      </p:sp>
      <p:sp>
        <p:nvSpPr>
          <p:cNvPr id="54"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alibri"/>
              </a:rPr>
              <a:t>Analysis (defining the problem)</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alibri"/>
              </a:rPr>
              <a:t>Design (sketching how the solution will look)</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alibri"/>
              </a:rPr>
              <a:t>Development (creating the information product)</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alibri"/>
              </a:rPr>
              <a:t>Testing (ensuring all aspects perform as intended)</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alibri"/>
              </a:rPr>
              <a:t>Documentation (writing instructions for user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alibri"/>
              </a:rPr>
              <a:t>Implementation (putting the solution to work)</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alibri"/>
              </a:rPr>
              <a:t>Evaluation (checking that the product solves the problem effectively)</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68360" y="404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000000"/>
                </a:solidFill>
                <a:latin typeface="Calibri"/>
              </a:rPr>
              <a:t>Area of Study 2 - Organisations and data management</a:t>
            </a:r>
            <a:br>
              <a:rPr sz="3600"/>
            </a:br>
            <a:endParaRPr b="0" lang="en-US" sz="36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500" spc="-1" strike="noStrike">
                <a:solidFill>
                  <a:srgbClr val="000000"/>
                </a:solidFill>
                <a:latin typeface="Calibri"/>
              </a:rPr>
              <a:t>In this area of study we develop knowledge about how organisations can acquire data via websites.</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500" spc="-1" strike="noStrike">
                <a:solidFill>
                  <a:srgbClr val="000000"/>
                </a:solidFill>
                <a:latin typeface="Calibri"/>
              </a:rPr>
              <a:t>We also develop knowledge and skills in using a relational database management system (RDBMS) to manipulate data typically acquired through websites.  An example of a RDMBS is Microsoft Access.  This is the main program that we will use during the subject.</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500" spc="-1" strike="noStrike">
                <a:solidFill>
                  <a:srgbClr val="000000"/>
                </a:solidFill>
                <a:latin typeface="Calibri"/>
              </a:rPr>
              <a:t>We review websites to ascertain the types of data being acquired, including text, numeric and images (still and moving), and to identify how the data is acquired.</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500" spc="-1" strike="noStrike">
                <a:solidFill>
                  <a:srgbClr val="000000"/>
                </a:solidFill>
                <a:latin typeface="Calibri"/>
              </a:rPr>
              <a:t>In this area of study there is an emphasis on the design and development stages of the problem-solving methodology.</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000000"/>
                </a:solidFill>
                <a:latin typeface="Calibri"/>
              </a:rPr>
              <a:t>Area of Study 2: - Outcome 2</a:t>
            </a:r>
            <a:endParaRPr b="0" lang="en-US" sz="4400" spc="-1" strike="noStrike">
              <a:solidFill>
                <a:srgbClr val="000000"/>
              </a:solidFill>
              <a:latin typeface="Calibri"/>
            </a:endParaRPr>
          </a:p>
        </p:txBody>
      </p:sp>
      <p:sp>
        <p:nvSpPr>
          <p:cNvPr id="5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alibri"/>
              </a:rPr>
              <a:t>On completion of this unit the student should be able to design, and develop using a relational database management system, a solution to an information problem, and discuss why and how data is acquired via websit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07T02:47:22Z</dcterms:created>
  <dc:creator>Education</dc:creator>
  <dc:description/>
  <dc:language>en-US</dc:language>
  <cp:lastModifiedBy>Education</cp:lastModifiedBy>
  <dcterms:modified xsi:type="dcterms:W3CDTF">2011-02-08T21:16:01Z</dcterms:modified>
  <cp:revision>14</cp:revision>
  <dc:subject/>
  <dc:title>Slide 1</dc:title>
</cp:coreProperties>
</file>